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593-AC65-42DD-A0B9-1FB456F1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E11-950C-4EF6-9E37-7726233A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F08-BE02-4AC1-80B9-2A45BB45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84B-8CA2-4A44-93A9-9CA7AFC7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E92B-4454-4D1C-AFAB-846D0B1B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6E9E-AB3F-4863-8E4A-40A91D14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D692-14F2-4422-A697-0F565F61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E0BD-762D-45A6-8811-0F0E4070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4B93-E527-4599-AE5A-E87888F7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4EFC-9533-4AAF-AF05-051280E1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66BF-EB9E-4E68-89AA-95BC4B86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5C4-CD67-44F9-979C-E8CA9710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9328-F0EC-4C87-9DBE-3FD5BE55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FF4B-6DAF-4116-93CD-B8DFD3DD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224C-BB4F-459D-BC15-D56B8D59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B73E-9D9F-4CF6-A9DF-304A39AC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3D6D-F327-4888-8BC3-4E676569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8ED-7037-43B1-A169-5CD6FCAB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8D6-1E7D-482A-85DB-9D735D3E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79D-5D66-4609-8707-CE548C1B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944-D44A-40FA-B881-C0C57C85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6D3-E5F8-451A-AD72-EF76CCEF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B77-C06A-4495-85B0-501FD741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DBA-2E1D-4CE6-9D6C-FE3797C2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1631-D374-4A85-8A57-33AFE2538144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107C-D2CA-4AC8-A47F-C32FDCDD83B8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LE PROSTOKĄ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JEDNOSTKI PO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POLA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2000" y="1193400"/>
            <a:ext cx="80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. Dany jest prostokąt o dług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3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i szerok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2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 Ile kwadratów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o boku dług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1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zmieści się w tym prostokąc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455292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 pokrycie prostokąta o bokac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trzebnych był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 kwadratów jednostkowy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132000" y="2327400"/>
          <a:ext cx="2765520" cy="18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327400"/>
                    <a:ext cx="276552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132000" y="2338560"/>
          <a:ext cx="2216160" cy="149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338560"/>
                    <a:ext cx="2216160" cy="14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POLA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000" y="953640"/>
            <a:ext cx="80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. Dany jest prostokąt o dług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6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i szerok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5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 Ile kwadratów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o boku dług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1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zmieści się w tym prostokąc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575496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 pokrycie prostokąta o bokac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trzebnych był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 kwadratów jednostkowy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097000" y="1673280"/>
          <a:ext cx="498312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7000" y="1673280"/>
                    <a:ext cx="498312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097000" y="1663560"/>
          <a:ext cx="4375080" cy="365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7000" y="1663560"/>
                    <a:ext cx="437508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POLA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2000" y="1057680"/>
            <a:ext cx="801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e kwadratu o boku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c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zyjmujemy za jednostkę po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 nazywamy ją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ntymetrem kwadratowy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 zapisujemy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c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581280" y="1989000"/>
          <a:ext cx="137160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989000"/>
                    <a:ext cx="13716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40520" y="3312000"/>
            <a:ext cx="79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nios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le prostokąta obliczamy mnożąc długości sąsiednich boków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69840" y="4347000"/>
            <a:ext cx="71852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e oznaczamy przez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tem pole prostokąta o długości boków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 c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 c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est rów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 = 6 cm · 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 = 30 cm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LE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22680" y="1267560"/>
            <a:ext cx="71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liczamy pole prostokąta o długości boku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długości boku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322360" y="2124000"/>
          <a:ext cx="4623120" cy="27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2360" y="2124000"/>
                    <a:ext cx="46231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3492360" y="5184720"/>
            <a:ext cx="2070360" cy="719280"/>
            <a:chOff x="3492360" y="5184720"/>
            <a:chExt cx="2070360" cy="719280"/>
          </a:xfrm>
        </p:grpSpPr>
        <p:sp>
          <p:nvSpPr>
            <p:cNvPr id="127" name=""/>
            <p:cNvSpPr/>
            <p:nvPr/>
          </p:nvSpPr>
          <p:spPr>
            <a:xfrm>
              <a:off x="3718080" y="524448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 = a · 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2360" y="5184720"/>
              <a:ext cx="2070360" cy="719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5920" y="1267560"/>
            <a:ext cx="61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licz pola prostokątów przedstawionych na rysun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11280" y="1989000"/>
          <a:ext cx="23558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989000"/>
                    <a:ext cx="23558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472000" y="1989000"/>
          <a:ext cx="235908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2000" y="1989000"/>
                    <a:ext cx="2359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EDNOSTKI P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44560" y="1090800"/>
            <a:ext cx="7986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m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mili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c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centy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d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decy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k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kilo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4182480"/>
            <a:ext cx="79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ednostkami pola są również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hektar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do wyrażania większych obszarów, np.: pola uprawne, działki, duże place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3440" y="5273280"/>
            <a:ext cx="62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en 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kwadrat o boku 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en hekt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kwadrat o boku 1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0920" y="126936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zupełnij tabelk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57360" y="2214720"/>
          <a:ext cx="5753160" cy="2857320"/>
        </p:xfrm>
        <a:graphic>
          <a:graphicData uri="http://schemas.openxmlformats.org/drawingml/2006/table">
            <a:tbl>
              <a:tblPr/>
              <a:tblGrid>
                <a:gridCol w="1438200"/>
                <a:gridCol w="1438200"/>
                <a:gridCol w="1438560"/>
                <a:gridCol w="1438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Długość prostoką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Szerokość prostoką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Obwó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P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d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41:07Z</dcterms:modified>
  <cp:revision>66</cp:revision>
  <dc:subject/>
  <dc:title>Slajd 1</dc:title>
</cp:coreProperties>
</file>